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0C01-1D78-4718-9831-6EAE7C0BA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38F6-67EC-477A-AC35-D4B66A957E99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9970-1A57-49B3-A703-22D31B993B7F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es often appear on the top or bottom of a page, or in menu bars and frames.  These sections often contain authorship clu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68C5-82D7-40F7-AA32-F3FE3882A525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lling and grammatical errors are important clues that a site ought to be avoided as a source.  Be on the lookout for information that just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l right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5177-88EA-480A-B507-7A08F6C9E86A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CDB2-5343-485A-BA6E-6B9FF7475497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examples of when it would be more or less important to have your site be current?  Is it important that an author keep a site main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D19E-0FBB-4DB0-91FC-73659CF2E6CE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suspicious of information that appears out of nowhere.  Unless this is a completely original source some documentation ought to be present for you to take the page 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7757-974E-47A8-9D72-DE94D71E1176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9E5-A886-448B-A10F-06F9F4EB8B96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various reasons people choose to publish on the Web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Web publishing different from traditional print--book, magazine, newspaper--publishing?  Who filtered (or selected) those resources for qual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6D33-D94C-4331-A8FE-273D2C132D17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old days, we had good old print to rely on.  Books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EB6-E95E-44A6-B3C5-D64BD406A071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85BC-ECA2-4FC4-B2C9-3F2027847770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iscover an author has a Ph.D.  Do you need to investigate any further? What if her degree is in physics and the site she wrote is on Shakespe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verything on Geocities bad?  Would your teacher question you citing a source that resided on a free serv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A476-AD11-4297-AE34-34F767DF0C33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often it is difficult to find information about authorship.  That may be a clue in itself.  However, if you really want to use a page, do not give up!  You may have to dig a little deeper to establish a pag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uthorit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D02-E32B-454B-8390-E8E99D0D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23A-DD4F-4CBB-BD69-32EC850E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569-CEBD-4FDF-BFDA-E2114247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39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71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7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39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71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319-316B-40F2-BC3F-68A4D34E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AB09-C3AE-4552-9562-8785B431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151A-A0D6-461F-A136-21278F27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DACE-16AE-4080-8DA3-1457B55D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0AFF-63DA-4C62-A7DA-AA98E7F3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3A10-A434-483D-BF9A-E36747B7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6933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0317-ABA5-4009-A0E0-3D9168BF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B012-BDF8-4DC4-BA35-CE60339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D08-45C8-47B1-B15D-A19C3F4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1952-97AD-4B61-8016-16575EE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56A8-0637-452A-B2DB-4273592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12FD-59BF-453E-8978-715B64D0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82E2-C5B9-4BE2-883F-455CF31D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39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371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39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371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0D2E-2946-4151-88A5-03B22890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A61-41C3-4105-8311-75C8F9FE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295-5303-4628-8E36-194E3F82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825-0F0B-4D61-8BC1-FB69791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6933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9DC-3C97-4AC5-BDB2-5119C4F1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F18-5498-4FA3-91AD-C361036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A55-F13E-434B-8C7B-12A2C6A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17E-BF80-4BF0-B8A6-81EF3D9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 flipV="1" rot="16200000">
            <a:off x="4456440" y="6361200"/>
            <a:ext cx="306360" cy="685800"/>
          </a:xfrm>
          <a:custGeom>
            <a:avLst/>
            <a:gdLst/>
            <a:ahLst/>
            <a:rect l="l" t="t" r="r" b="b"/>
            <a:pathLst>
              <a:path fill="none" w="21675" h="43200">
                <a:moveTo>
                  <a:pt x="75" y="-1"/>
                </a:moveTo>
                <a:cubicBezTo>
                  <a:pt x="12004" y="0"/>
                  <a:pt x="21675" y="9670"/>
                  <a:pt x="21675" y="21600"/>
                </a:cubicBezTo>
                <a:cubicBezTo>
                  <a:pt x="21675" y="33529"/>
                  <a:pt x="12004" y="43200"/>
                  <a:pt x="75" y="43200"/>
                </a:cubicBezTo>
                <a:cubicBezTo>
                  <a:pt x="49" y="43199"/>
                  <a:pt x="24" y="43199"/>
                  <a:pt x="-1" y="43199"/>
                </a:cubicBezTo>
              </a:path>
              <a:path stroke="0" w="21675" h="43200">
                <a:moveTo>
                  <a:pt x="75" y="-1"/>
                </a:moveTo>
                <a:cubicBezTo>
                  <a:pt x="12004" y="0"/>
                  <a:pt x="21675" y="9670"/>
                  <a:pt x="21675" y="21600"/>
                </a:cubicBezTo>
                <a:cubicBezTo>
                  <a:pt x="21675" y="33529"/>
                  <a:pt x="12004" y="43200"/>
                  <a:pt x="75" y="43200"/>
                </a:cubicBezTo>
                <a:cubicBezTo>
                  <a:pt x="49" y="43199"/>
                  <a:pt x="24" y="43199"/>
                  <a:pt x="-1" y="43199"/>
                </a:cubicBezTo>
                <a:lnTo>
                  <a:pt x="75" y="21600"/>
                </a:lnTo>
                <a:lnTo>
                  <a:pt x="75" y="-1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AutoShape 4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AutoShape 7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27E3-0D66-45AC-8FA5-0B63E563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AutoShape 3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AutoShape 6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2633-F56D-464C-B6D3-86305103B8F5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ey there! </a:t>
            </a:r>
            <a:br>
              <a:rPr sz="6000"/>
            </a:b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ave you evaluated?</a:t>
            </a:r>
            <a:endParaRPr b="0" lang="en-US" sz="6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4876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that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enough t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06" name="Picture 6" descr="stk-fgr6"/>
          <p:cNvPicPr/>
          <p:nvPr/>
        </p:nvPicPr>
        <p:blipFill>
          <a:blip r:embed="rId1"/>
          <a:stretch/>
        </p:blipFill>
        <p:spPr>
          <a:xfrm>
            <a:off x="3429000" y="2286000"/>
            <a:ext cx="2381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ook for credibility clues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and phrases to look for: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out us, Who Am I, FAQs, For More, Company Information, Profiles, Our Staff, Hom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the author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no information other than an e-mail link, write a polite e-mail asking for more inform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5943600" y="5405400"/>
            <a:ext cx="984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CURACY: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facts agree with other source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knowledge, does the information seem correct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re appear to be errors on the page (spelling, grammar, facts)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3505320" y="4705200"/>
            <a:ext cx="18237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ABILITY: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ource present a particular view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age connected to a group that wants to make you think a certain way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age selling a produc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: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is information creat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 revis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dates important to my subjec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author of the page stopped maintaining i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spicious of undated material.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9" name="Picture 5" descr="desk_calendar_1"/>
          <p:cNvPicPr/>
          <p:nvPr/>
        </p:nvPicPr>
        <p:blipFill>
          <a:blip r:embed="rId1"/>
          <a:stretch/>
        </p:blipFill>
        <p:spPr>
          <a:xfrm>
            <a:off x="3657600" y="4952880"/>
            <a:ext cx="16765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bibliography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websites or books real? Have you or your librarian heard of or been able to check them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links did the author choos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hyperlinks reliable, valuabl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links work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What can you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earn from a URL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forget to check the URL to get a clue about the sit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rategy is only a guideline. People can easily purchase domain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URLs as clues to conten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886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m=commercial sites (vary in their credibility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ov=U.S. government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rg=organization, often non-profit. Some have strong bias and agend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edu=school or university site (is it K-12? By a student? By a scholar?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store=retail bus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int=international institutio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95680" y="1752120"/>
            <a:ext cx="38102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c=educational institution (like .edu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il=U.S. military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=networked service provider, Internet administrative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useum=museum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ame=individual Internet use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biz=a bus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ro=professiona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=personal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Remember, the </a:t>
            </a:r>
            <a:r>
              <a:rPr b="0" i="1" lang="en-US" sz="4400" spc="-1" strike="noStrike">
                <a:solidFill>
                  <a:srgbClr val="6600cc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Web is not your only choice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print sourc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Grolier On-line? iConn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heck with your teacher/librarian for advic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Just as you evaluate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your sources . . .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eacher will evaluate your work based on the quality of the sources you select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carefully.  D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settl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od en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lways counts!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962520" y="5407200"/>
            <a:ext cx="1523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valuation is important!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arn to be fussy!</a:t>
            </a:r>
            <a:endParaRPr b="0" lang="en-US" sz="66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292572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"/>
          <p:cNvSpPr/>
          <p:nvPr/>
        </p:nvSpPr>
        <p:spPr>
          <a:xfrm>
            <a:off x="3733920" y="457200"/>
            <a:ext cx="4876560" cy="2590920"/>
          </a:xfrm>
          <a:prstGeom prst="wedgeRoundRectCallout">
            <a:avLst>
              <a:gd name="adj1" fmla="val -32712"/>
              <a:gd name="adj2" fmla="val 59435"/>
              <a:gd name="adj3" fmla="val 16667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mmm.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This one looks good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ow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can I tell for sur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It</a:t>
            </a:r>
            <a:r>
              <a:rPr b="0" lang="ja-JP" sz="4400" spc="-1" strike="noStrike">
                <a:solidFill>
                  <a:srgbClr val="6600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 okay to be confused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billions of websites out ther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are not good for repor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ery hard to tell the good from the bad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b authors 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want you to understand the differenc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1" name="Picture 4" descr="images"/>
          <p:cNvPicPr/>
          <p:nvPr/>
        </p:nvPicPr>
        <p:blipFill>
          <a:blip r:embed="rId1"/>
          <a:stretch/>
        </p:blipFill>
        <p:spPr>
          <a:xfrm>
            <a:off x="7620120" y="304920"/>
            <a:ext cx="11998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8951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one can publish anyt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eb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your job, as a researcher, to look for quality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n the old days, we had good old print to rely on.  Books, newspapers,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219320" y="609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1295640" cy="113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3"/>
          <a:stretch/>
        </p:blipFill>
        <p:spPr>
          <a:xfrm>
            <a:off x="6629400" y="152280"/>
            <a:ext cx="1371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541008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609480" y="1676520"/>
            <a:ext cx="3200400" cy="1904760"/>
          </a:xfrm>
          <a:prstGeom prst="wedgeEllipseCallout">
            <a:avLst>
              <a:gd name="adj1" fmla="val 49601"/>
              <a:gd name="adj2" fmla="val 8533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Okay, so how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do we know if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a site is good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3276720" y="0"/>
            <a:ext cx="5486400" cy="2743200"/>
          </a:xfrm>
          <a:prstGeom prst="wedgeEllipseCallout">
            <a:avLst>
              <a:gd name="adj1" fmla="val 12268"/>
              <a:gd name="adj2" fmla="val 8576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Yeah, and how can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we be sur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d"/>
              </a:rPr>
              <a:t>our teacher</a:t>
            </a: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 will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think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i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s good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enough to cit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hink of CARRDS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BILITY /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uthored the information and why?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uthor an expert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ctually published this pag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personal page or is it part of the site belonging to a major institution? (Clues pointing to a personal page: ~ tilde, %, users, members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1904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2659320" cy="2710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838080" y="914400"/>
            <a:ext cx="5181840" cy="3124080"/>
          </a:xfrm>
          <a:prstGeom prst="wedgeEllipseCallout">
            <a:avLst>
              <a:gd name="adj1" fmla="val 46995"/>
              <a:gd name="adj2" fmla="val 83435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But what if I 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find any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author information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00:09:16Z</dcterms:created>
  <dc:creator>Joyce Valenza</dc:creator>
  <dc:description/>
  <dc:language>en-US</dc:language>
  <cp:lastModifiedBy>reading</cp:lastModifiedBy>
  <cp:lastPrinted>2005-11-15T12:14:40Z</cp:lastPrinted>
  <dcterms:modified xsi:type="dcterms:W3CDTF">2015-10-20T17:40:12Z</dcterms:modified>
  <cp:revision>73</cp:revision>
  <dc:subject/>
  <dc:title>Hey there!</dc:title>
</cp:coreProperties>
</file>